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542-2739-4F0D-9889-FA31FAB6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84C-0DDE-469C-887C-CC2CB506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474-80CA-4886-9D95-1DC61FF0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2E3-2B57-4B07-81FE-393967AF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D8C-64AE-4281-8ED3-2AD5E8E9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DA7-3E94-4488-9A32-B13F5F62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BD8-F4E0-4B46-B8EC-9B6E353A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F9C-6020-4929-9DD9-077154CD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9E36-D387-4C95-B88F-3EA84AA0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E03-0E51-4EBD-9486-306ED9C4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9E0-5347-4ED8-BB54-DA69F4AF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884-5F88-42D1-91C0-97B3807A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2F27-F53A-4C06-B28C-7D90E6EF349F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8519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MR1100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Linking Marketing to Corporate Strategies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4038480"/>
            <a:ext cx="785484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hapter 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rategic Corporate Plan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eize Organizational Opportunit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Key opportunities exist in fields where the organization is better than its competitors - so called Distinctive Competenci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 organization should attempt to seize opportunities in areas that not only is it better than its competitors in, but in areas where they will/can retain their advantage - so called Sustainable Competitive Advantag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Strategic Marketing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rategic Marke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 process directed at the product and market levels so as to allocate resources to viable marketing opportuniti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ncludes Planning, Implementation and Contro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is process yields a  MARKETING PL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Key Questions to ask at the Strategic Marketing level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are we now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do we want to go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o we allocate resources to get to where we want to go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o we convert our plans into action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o our results compare with our plans, and do deviations require new plans of actio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133720" y="685800"/>
            <a:ext cx="487368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Key Steps in the Marketing Pl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STEP 1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- A Situational Analysis &amp; SWO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sks: What is the current situation with the market or the product?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re are many internal and external sources from which to draw this informa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 SWOT analysis is a key tool to determining the answer to: What is the current situation with the market or the product?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WOT Analy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A Strategic planning tool used to detect key opportuniti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Analysis of key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Internal Strengths (Within the orgs. control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Internal Weaknesses (Within the orgs. control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External Opportunities (Can be acted upon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External Threats ( Things to be watched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From the SWOT process plans can be made to build on/improve strengths, detect and fix weaknesses, seize opportunity, and be aware of potential threats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WOT Analy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rcRect l="29175" t="23619" r="12254" b="29516"/>
          <a:stretch/>
        </p:blipFill>
        <p:spPr>
          <a:xfrm>
            <a:off x="2057400" y="2286000"/>
            <a:ext cx="510552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WOT Analy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36114" t="37006" r="16666" b="24318"/>
          <a:stretch/>
        </p:blipFill>
        <p:spPr>
          <a:xfrm>
            <a:off x="914400" y="1905120"/>
            <a:ext cx="7315200" cy="3298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2362320" y="571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nt to read more about SWOT? Click he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Key Steps in the Marketing Pl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STEP 2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- Set Marketing Goals and Objec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Marketing objectives must be clear, attainable and measurable targe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Key objectives centre around Sales, Market Share and Customer satisfac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Develop a Strategy to achieve the marketing objectiv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Key strategies  centre around reducing cost or increasing revenu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 this Section we will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efine Corporate Strategy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efine Business Unit Strategy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Explain why Business Mission, Values, Culture and Goals are important to organization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Effectively use strategic planning tools such as the SWOT analysis, Business Portfolio Analysis and the Market Product Analysis to assess strategic option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ork through the strategic marketing process through the planning, implementation and control phase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Key Steps in the Marketing Pl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ypical Marketing strategies in order to increase reven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roduct Development: Develop a new product for an existing mark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Market Development: Enter a new market with an existing produc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Market Penetration:  Sell more of a current product to your existing mark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Diversification: Sell a new product to a new mark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Key Steps in the Marketing Pl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STEP 3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- Adjust the Marketing Mix to suit the Strateg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Determine the best product, the best price, the best promotion and the best distribution methods to meet the objectiv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Set the Budg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Plan for the costs of implementing the strateg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Key Steps in the Marketing Pl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alibri"/>
              </a:rPr>
              <a:t>Implement and Control the Strategy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re the right people for the job and assign their ro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, Schedule and Execute the planned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alibri"/>
              </a:rPr>
              <a:t>Evaluate the Strategies effectiveness in achieving the set objective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ometimes, especially if the time from situational analysis to planning to implementation is long there will be a gap created into what is sold versus what could have been sold if the required changes (implementation) could have been made sooner.  This situation is known as the Planning Gap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rate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094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Strategy involves the planning and the execution of the plann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Strategic  planning is a process that plans for the Long-Ter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Strategic planning can take place at two level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he Corporate Level - Strategic Corporate Plan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he Product Level - Strategic Marketing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alibri"/>
              </a:rPr>
              <a:t>Strategic Corporate Planning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rategic Corporate Plan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Steps taken at the corporate (top) level to develop long-run approaches to corporate survival and growth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Step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alibri"/>
              </a:rPr>
              <a:t>Establish Core Values </a:t>
            </a: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– enduring principles that the firm lives by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Define the corporate </a:t>
            </a:r>
            <a:r>
              <a:rPr b="1" lang="en-GB" sz="2600" spc="-1" strike="noStrike">
                <a:solidFill>
                  <a:srgbClr val="ffffff"/>
                </a:solidFill>
                <a:latin typeface="Calibri"/>
              </a:rPr>
              <a:t>Mission</a:t>
            </a: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 -- What is it we do, to whom to we do it, How we do it and why we do i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Develop a complementary </a:t>
            </a:r>
            <a:r>
              <a:rPr b="1" lang="en-GB" sz="2600" spc="-1" strike="noStrike">
                <a:solidFill>
                  <a:srgbClr val="ffffff"/>
                </a:solidFill>
                <a:latin typeface="Calibri"/>
              </a:rPr>
              <a:t>Organizational Culture, </a:t>
            </a: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that supports the Core Values and Missio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rategic Corporate Plan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et specific and measurable Goals &amp;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Objectives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, or targets to be met my the organiz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se objectives may include such things as Survival, Profit, Market Share, Unit Sales, Quality, Employee Welfare, Social Responsibility, Shareholder value, Customer Val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rategic Corporate Plan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ses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#1 - Where are we now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o are our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ustomer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do we do well (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mpetencie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do we do better than anybody else? (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mpetitive Advantag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o are our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mpetitor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rategic Corporate Plan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ses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#2 - Where do we want to go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oston Consulting Group Matrix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37739" t="22012" r="18867" b="25156"/>
          <a:stretch/>
        </p:blipFill>
        <p:spPr>
          <a:xfrm>
            <a:off x="2438280" y="2819520"/>
            <a:ext cx="411480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rategic Corporate Plan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ses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#2 - Where do we want to go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rket-Product Gri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rcRect l="0" t="25156" r="58491" b="22012"/>
          <a:stretch/>
        </p:blipFill>
        <p:spPr>
          <a:xfrm>
            <a:off x="1600200" y="3048120"/>
            <a:ext cx="685800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8T15:43:26Z</dcterms:created>
  <dc:creator>Debbie Vincent</dc:creator>
  <dc:description/>
  <dc:language>en-US</dc:language>
  <cp:lastModifiedBy>Tilley, Paul (C'ville)</cp:lastModifiedBy>
  <dcterms:modified xsi:type="dcterms:W3CDTF">2011-10-18T12:51:00Z</dcterms:modified>
  <cp:revision>9</cp:revision>
  <dc:subject/>
  <dc:title>Marketing in the Organization: An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